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jpeg" ContentType="image/jpeg"/>
  <Override PartName="/ppt/media/image9.png" ContentType="image/pn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6B84A-CC05-421B-9C2C-C2D006BFC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F7E4C-B8B1-46E6-86C6-567060718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1D50C1-5917-4F23-A617-A53BEC82F1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BD60DC-9A8E-4805-8297-67BB6B2AAA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90AB9F-3DD0-4857-B641-B4560F0A97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387A2B-269E-4BF9-A1EA-3305C233CD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9B50ED-71C0-401B-A857-ABBBC6FC24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E6A84B-43C4-4EAB-91FB-A9F6D98764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21F486-1BEE-4FE8-B504-F2C4A3AAF8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58DF16-5AF7-4876-9E16-AEAB3D5F48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8EAF99-58A6-4C33-850F-4965A6BA07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56B849-F4C0-41D3-A3CA-BD5925B589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058CC-832F-4F87-8DC0-B919F53A0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F5C772-FA50-4622-96FE-30AD122621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E6F09A-12D0-4E71-BF27-798E820432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86131E-1CFD-4290-9B86-CE19D66810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34BC85-5434-4FA6-8A37-64C1238F65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DCD67D-D08B-4789-B62A-B729C62640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CFE9C0-87C0-42C3-9BF5-FF7666125E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98EF9E-50A3-400A-9AF7-F48C526B8B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57C4AF-FE57-4A4A-AD1F-55BBF191DB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7E2E51-4725-412C-83F7-286C724015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F5687C-3FA7-461B-A79F-83D8AD5F384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3CD58-BC07-4774-AEE6-C8C9CE62A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2CF467-E867-4ED5-A9B5-C4CA9BF0A6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8BE8CD-AF29-4511-9154-BC5B6D0B151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78435C-20C1-4C86-91AA-83F41A43F8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B147FD-33B0-4D22-A546-4B63CD4B9B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544A89-6376-49DC-8EBB-9AE549F3D1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028D3C-57B3-4D88-B85E-A7F90B3A42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862960-2A97-49FE-A924-4859758574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A71631-044B-4605-AF5D-041054214A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F211CD-688B-40ED-910B-7943C2A613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6988D5-A343-4D87-83ED-E5E3623ADF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47311-E556-4E44-B563-979388583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B58741-B186-4BF9-A0E3-91ABE5F81C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EB3F13-6583-4B90-BCBA-3A725C6F8E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8CC0123-F69C-477E-B547-048CA727AE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253A86C-BC54-4E6A-BCC8-2CA4CB81B33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033F72-A6B1-414F-82EF-89A7808CB8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588165-1538-4C64-B858-EE62E8B00B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182F0F-5C15-4F41-94F4-57963F5B0E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5EFAEC-C0E3-43FF-BF4B-8B624D13FD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DC2375-2E10-434E-B8F0-746C34A7CE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D1532E-9AAF-42F1-91BD-C85BAE62FB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AFF2E-20E3-42E4-802B-52F799439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CA3795-8E0A-4904-A576-57E8D779D2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194334-05C0-4FD4-ABCD-495E2D1377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1F80F7-0632-41E1-9316-53FC673D80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90B819D-EDD4-44D3-99AA-70782C7B38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65BF6B1-7D06-4101-9612-B1B09802E8A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81AD4-4057-4B5B-9F3D-8AD7A67E4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0B406-CD4C-4549-99D7-23BDC060C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CCE97-28F9-417E-8876-54A10D12B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ABF23-D2DF-4123-B7F0-5CB0D6C75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11598-B435-4E59-BE88-360009115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86398-10BF-41E5-A457-DF342026B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88352-3C63-421C-AF48-3196D05BB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A641F-049C-40E6-94CB-9DCE0DBB6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E9120-35AC-43F6-BFFC-562439259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3D6E0-0AE6-4C46-9F02-64E3A344D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24D69-1DAF-4076-B825-3604BC90B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50FF26-6D11-4A36-A449-04BD928A10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D4F7C7-5A07-4C80-9D85-57515A9FF7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A7BCAD-B465-4F1C-B25D-7BDB6DFB45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5C0749-A805-436D-A34E-D8CEBFF085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6B92EE-30A2-4806-B115-1BD70CD764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9D1B6-0790-48AD-9522-0C45A16D8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F39B52-E62D-46CF-9DDC-B1F0ABE4B9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4E412-7305-4B7D-A99D-1BB85BAF5B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12185F-769D-4441-B71C-F46BFDAB5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D110D2-D6AF-4D0C-8D7C-B12EC8FB0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D670BA-B27F-4135-8CE4-09E5BD49B5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2E6198-9311-45A9-A977-EBEB1A2A36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CC2D42-0C93-49DE-8182-164EEA1F06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5FE4D6-E140-4809-B9DC-E493E45B64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845287-B60C-46E3-AF44-AC206C081A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1FDED9-7D9A-4736-ADD2-D2D946EC13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B440F-B4D9-4D50-B761-A0DBF085A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9EE8BB-B565-4DD9-98C3-9069A9BAAE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A5BF27-6F87-4874-99E4-725A30E63E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D096A7-2AA7-482A-B8C1-A79F98E436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73D330-298F-4063-9BB7-726568C684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533467-37A7-4F05-B63C-84DA848E1D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67B0D6-69BC-40EC-BC5C-C4579121AD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9EFEFA-9717-49F9-AE78-AE1FA0B6E2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A90C73-A56D-4232-B7FA-FA8BAF0695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DEE4CA-E65F-4839-8696-A90730AFCE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DA8C3D-E37F-4F31-975F-15E31815C4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9C766-3C94-474F-8959-ABD7A3A83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2AD80C-E415-4178-9F3C-CEE74B0D94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198905-DBD0-41B8-82D1-2D18AA6767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C7629F-6F3E-4EE1-9D69-39B62D6C69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A8EB96-F2D7-469D-B62D-4745EBCEB9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4DFF02-69CF-4CBE-A70C-05A256A291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AE8EFD-2888-47EF-84AB-483849F7E1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05F955-4DCE-4BA7-93BA-44DA76E8F7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0F97E7-66F8-4A5F-946C-AA4427B473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1F500B-5502-4A06-84CE-1F103DDB63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9954B8-D40B-42A6-97C7-DCD87EEC91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936D2-A3AE-47DD-A15C-BA0F43AD1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1621C9-A3AE-4633-86F3-E66143F1AE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EC91E0-BEA2-4F51-9497-316BB0C816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78B060-F1DC-4094-9EFE-DFD68E6E2C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F2C83E-C78C-4CA0-9B89-9A5A4D226B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77B5F2-ECD4-4897-B4B6-63BAB65166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B3E27F-728B-492C-A75C-1F9BE1572A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3AF962-F6D2-4553-80A3-FD8C1FC52C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ED858A-969F-4087-9651-43A4905F8B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320CBA-255F-4855-9A55-29A2155F09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896C9F-30CD-4390-8FF3-AFB8297DD8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CBDFE-24CF-41DC-831E-693951472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78F12F-D782-44F4-B716-1F2527D615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39F821-E1CB-4F42-896D-C0109E9A35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216CBB-BA31-4F34-84C4-6161E9EA40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39D1D6-C42C-4A2E-9CE7-3B7B4B0E3B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FFC8D9-6CE6-4F49-8A14-CE1E82750F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B3E4A0-1A9A-4B1F-B1EE-A391C58040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F65286-4B40-4A48-B088-913213FC70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048221-8AF1-4E18-BABF-3349127F07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D112C5-DF7A-4E6A-BED1-DCAAF31E4C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DE1682-CA1E-44B1-B2B1-F41BE1B227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59C44-56CF-4472-85B1-070EBD5B2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BD06F7-B026-4544-A391-5205A286C6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A9C0BE-E6C6-42B4-AA8D-612425DC82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3A81EF-D726-4FA3-ACF9-10BDCF1E73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CADA5A-A049-4BBA-B4F1-C29714396C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50CA19-902E-4832-B04D-951E0B7650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57F3CC-E43B-40A0-BACB-DD1341262C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A07933-08C9-476D-8B92-211DFF2943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2A5475-1D4E-452C-8154-9ADACE7F38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B07524-0659-469A-AD9C-B0FA78CEA0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251B77-8B8F-4140-B233-510068DBC8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B8D7F-C1C7-4E16-9874-7EEB80AD6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CA5BCF-D6CB-4D14-A9FE-2EC3E06D3D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9B73AA-72EE-4A9E-9833-1C55ACA444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D8E35E-E04A-4377-995F-269089FA0E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AD1B7A-D29D-46CF-A130-A7F18CABA4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D32E89-8A20-46B0-B19A-7A2F03C670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6FA262-9121-4972-B6D8-905B040692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29E515-FF93-490C-952E-E6ECAD6273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09D06D-6496-4101-A04A-0C704BADDB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55B8E2-25A8-433F-AB7F-5709E36CD6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E92786-E5BB-4723-B0BB-CDB772B3985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6ECD-8636-4480-83BC-F36CDA1513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08DBE-4F7C-40E1-942A-1400382618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3756-C701-4D1D-9F51-8E261DECCA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1C40-3DFB-48D9-8743-11FE6821CB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62625-7468-4925-B359-09DB4B3108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8DE2-09B2-4851-B995-ED7DC90567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9E72-9857-4F23-A8FC-B973BB203B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85BE-2AD9-41AB-9B48-858B7A28C0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EC0A-C2AE-43BB-8FEA-38321BCB08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E073-13C3-4BE0-A5FD-EB0BA8633D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EC66-817B-4BAD-92E2-9E7839D7CC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E2E4-9B5C-47D6-AE3E-AFE0842516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HEALTH TECHNOLOGY</a:t>
            </a:r>
            <a:endParaRPr b="0" lang="en-US" sz="4800" spc="-1" strike="noStrike">
              <a:solidFill>
                <a:srgbClr val="000000"/>
              </a:solidFill>
              <a:latin typeface="Calibri"/>
            </a:endParaRPr>
          </a:p>
        </p:txBody>
      </p:sp>
      <p:sp>
        <p:nvSpPr>
          <p:cNvPr id="493" name="PlaceHolder 2"/>
          <p:cNvSpPr>
            <a:spLocks noGrp="1"/>
          </p:cNvSpPr>
          <p:nvPr>
            <p:ph type="subTitle"/>
          </p:nvPr>
        </p:nvSpPr>
        <p:spPr>
          <a:xfrm>
            <a:off x="1371600" y="4653000"/>
            <a:ext cx="6400800" cy="9856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Ivana Simic Vukomanov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velopment of new technologies includes several stages until their final introduction into the healthcare system: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discoveri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linical testing - in vitro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boratory testing - in vivo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 testing -in silic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mulation of natural processes using computer modeling softw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esting new technology through clinical research;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cess of licensing new technolog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technology assessment (HTA) refers to the systematic, multidisciplinary evaluation of the medical, social, ethical, economic, and legal consequences of the development, dissemination, and use of health technologie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AutoShape 5"/>
          <p:cNvSpPr/>
          <p:nvPr/>
        </p:nvSpPr>
        <p:spPr>
          <a:xfrm>
            <a:off x="155520" y="-738360"/>
            <a:ext cx="2952720" cy="155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1" name="Picture 13" descr="PDF] Conducive factors to the development of Health Technology Assessment  in Asia | Semantic Scholar"/>
          <p:cNvPicPr/>
          <p:nvPr/>
        </p:nvPicPr>
        <p:blipFill>
          <a:blip r:embed="rId1"/>
          <a:stretch/>
        </p:blipFill>
        <p:spPr>
          <a:xfrm>
            <a:off x="1447920" y="3962520"/>
            <a:ext cx="6327720" cy="289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23" name="Picture 2" descr="Health Technology Assessment : Interpreting a HTA report | PPT"/>
          <p:cNvPicPr/>
          <p:nvPr/>
        </p:nvPicPr>
        <p:blipFill>
          <a:blip r:embed="rId1"/>
          <a:stretch/>
        </p:blipFill>
        <p:spPr>
          <a:xfrm>
            <a:off x="685800" y="1905120"/>
            <a:ext cx="7391520" cy="419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
          <p:cNvSpPr txBox="1"/>
          <p:nvPr/>
        </p:nvSpPr>
        <p:spPr>
          <a:xfrm>
            <a:off x="457200" y="1218960"/>
            <a:ext cx="8229600" cy="56386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ssment of health technologies can be done by different institutions, most often they are government agencies attached to ministries and agencies attached to universities, but they can also be independent non-profit research institution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s on the choice of health technologies are made at different levels of health policy. Some decisions are made at the national level, as in the case where laws and regulations regulate the purchase of certain medical equipment or the provision of certain health services. Certain decisions are made directly in clinical practice, at the operational level.</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organizations around the world are involved in health technology assessment. There is an obvious need for them to cooperate and exchange inform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ce 1993, there has been an International Network of Agencies for the Assessment of Health Technologies - INAHTA. It is a non-profit organization based in Sweden and includes 50 agencies and 26 countries worldw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ssment of health technologies is important…</a:t>
            </a:r>
            <a:endParaRPr b="0" lang="en-US" sz="4400" spc="-1" strike="noStrike">
              <a:solidFill>
                <a:srgbClr val="000000"/>
              </a:solidFill>
              <a:latin typeface="Calibri"/>
            </a:endParaRPr>
          </a:p>
        </p:txBody>
      </p:sp>
      <p:sp>
        <p:nvSpPr>
          <p:cNvPr id="529" name=""/>
          <p:cNvSpPr txBox="1"/>
          <p:nvPr/>
        </p:nvSpPr>
        <p:spPr>
          <a:xfrm>
            <a:off x="457200" y="129528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sts government regulatory bodies in the process of making decisions about whether to allow the use of a drug, equipment or other technology;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urance agencies in evaluating the justification of including a certain technology in the package of services that are covered by health insurance;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help manufacturers of health technologies to decide which technologies to develop;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help managers of different health institutions in deciding when it is necessary to acquire or introduce some new health technology;</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alth workers and users in deciding on the use or choice of different methods or intervention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31" name="" descr=""/>
          <p:cNvPicPr/>
          <p:nvPr/>
        </p:nvPicPr>
        <p:blipFill>
          <a:blip r:embed="rId1"/>
          <a:stretch/>
        </p:blipFill>
        <p:spPr>
          <a:xfrm>
            <a:off x="457200" y="1600200"/>
            <a:ext cx="8229600" cy="4525920"/>
          </a:xfrm>
          <a:prstGeom prst="rect">
            <a:avLst/>
          </a:prstGeom>
          <a:ln w="0">
            <a:noFill/>
          </a:ln>
        </p:spPr>
      </p:pic>
      <p:pic>
        <p:nvPicPr>
          <p:cNvPr id="532" name="Picture 2" descr="Health Technology Assessment PowerPoint Presentation Slides - PPT Template"/>
          <p:cNvPicPr/>
          <p:nvPr/>
        </p:nvPicPr>
        <p:blipFill>
          <a:blip r:embed="rId2"/>
          <a:stretch/>
        </p:blipFill>
        <p:spPr>
          <a:xfrm>
            <a:off x="0" y="990720"/>
            <a:ext cx="9144000" cy="514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alth Technology Assessment Process</a:t>
            </a:r>
            <a:endParaRPr b="0" lang="en-US" sz="4400" spc="-1" strike="noStrike">
              <a:solidFill>
                <a:srgbClr val="000000"/>
              </a:solidFill>
              <a:latin typeface="Calibri"/>
            </a:endParaRPr>
          </a:p>
        </p:txBody>
      </p:sp>
      <p:sp>
        <p:nvSpPr>
          <p:cNvPr id="53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irst stage </a:t>
            </a:r>
            <a:r>
              <a:rPr b="0" lang="en-US" sz="2400" spc="-1" strike="noStrike">
                <a:solidFill>
                  <a:srgbClr val="000000"/>
                </a:solidFill>
                <a:latin typeface="Calibri"/>
              </a:rPr>
              <a:t>- determining the health technology assessment framework In the first phase of the assessment, it is necessary to gain a detailed insight into the purpose and characteristics of the technolog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hase Two </a:t>
            </a:r>
            <a:r>
              <a:rPr b="0" lang="en-US" sz="2400" spc="-1" strike="noStrike">
                <a:solidFill>
                  <a:srgbClr val="000000"/>
                </a:solidFill>
                <a:latin typeface="Calibri"/>
              </a:rPr>
              <a:t>- Systematic evaluation of the available evidence on health technology Medical evaluation Data for evaluating the effects of technology are obtained from various sources. It should be noted that the validity of the evidence depends on the design of the stud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hase Three </a:t>
            </a:r>
            <a:r>
              <a:rPr b="0" lang="en-US" sz="2400" spc="-1" strike="noStrike">
                <a:solidFill>
                  <a:srgbClr val="000000"/>
                </a:solidFill>
                <a:latin typeface="Calibri"/>
              </a:rPr>
              <a:t>- Formulation of reports on decisions and recommendations for the application of health technolog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EHR systems or other technologies while engaging with patients and creating treatment plans is now standard practice. Laptops and tablets have become just as common in healthcare settings as stethoscopes, and there's growing evidence that EHRs are having a positive effect on accessing and exchanging health inform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one large challenge EHRs have created is the accumulation of large amounts of unintegrated and unstandardized data. Currently, most healthcare organizations have a wealth of data they could use to improve their procedures and business practices, but they might not have the tools or expertise to uncover insights in that data. Newer technologies, like cloud, blockchain and AI tools based on machine learning, can help healthcare organizations uncover patterns in large amounts of data while also making that data more secure and easier to man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
          <p:cNvSpPr/>
          <p:nvPr/>
        </p:nvSpPr>
        <p:spPr>
          <a:xfrm>
            <a:off x="838080" y="1066680"/>
            <a:ext cx="746784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orld Health Organisation (WHO) defines health technology as the application of organized knowledge and skills in the form of medicines, vaccines, medical devices, and procedures, alongside systems that are used to solve numerous health problems and improve the quality of life across the world.</a:t>
            </a:r>
            <a:endParaRPr b="0" lang="en-US" sz="2800" spc="-1" strike="noStrike">
              <a:solidFill>
                <a:srgbClr val="000000"/>
              </a:solidFill>
              <a:latin typeface="Arial"/>
            </a:endParaRPr>
          </a:p>
        </p:txBody>
      </p:sp>
      <p:sp>
        <p:nvSpPr>
          <p:cNvPr id="495" name="AutoShape 4"/>
          <p:cNvSpPr/>
          <p:nvPr/>
        </p:nvSpPr>
        <p:spPr>
          <a:xfrm>
            <a:off x="155520" y="-784080"/>
            <a:ext cx="2790720" cy="1647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6" name="Picture 6" descr="WHO: World Health Organisation - Office of the Secretary-General's Envoy on  Youth"/>
          <p:cNvPicPr/>
          <p:nvPr/>
        </p:nvPicPr>
        <p:blipFill>
          <a:blip r:embed="rId1"/>
          <a:stretch/>
        </p:blipFill>
        <p:spPr>
          <a:xfrm>
            <a:off x="1905120" y="4114800"/>
            <a:ext cx="5715000" cy="2536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healthcare industry faces new challenges, technology solutions are helping leaders to improve performance, increase collaboration across systems and manage costs. As demands on organizations increase, healthcare technology can streamline processes, automate tasks and improve workflows at a scale that’s not possible for humans alone. As providers at hospitals and health systems embrace value-based health reimbursement models, these solutions are helping healthcare professionals to improve patient care, create better experiences and reduce burnou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42" name="" descr=""/>
          <p:cNvPicPr/>
          <p:nvPr/>
        </p:nvPicPr>
        <p:blipFill>
          <a:blip r:embed="rId1"/>
          <a:stretch/>
        </p:blipFill>
        <p:spPr>
          <a:xfrm>
            <a:off x="457200" y="1600200"/>
            <a:ext cx="8229600" cy="4525920"/>
          </a:xfrm>
          <a:prstGeom prst="rect">
            <a:avLst/>
          </a:prstGeom>
          <a:ln w="0">
            <a:noFill/>
          </a:ln>
        </p:spPr>
      </p:pic>
      <p:pic>
        <p:nvPicPr>
          <p:cNvPr id="543" name="Picture 2" descr="75 Best Thank-You Messages and Words of Appreciation"/>
          <p:cNvPicPr/>
          <p:nvPr/>
        </p:nvPicPr>
        <p:blipFill>
          <a:blip r:embed="rId2"/>
          <a:stretch/>
        </p:blipFill>
        <p:spPr>
          <a:xfrm>
            <a:off x="762120" y="1600200"/>
            <a:ext cx="745812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
          <p:cNvSpPr/>
          <p:nvPr/>
        </p:nvSpPr>
        <p:spPr>
          <a:xfrm>
            <a:off x="685800" y="1859040"/>
            <a:ext cx="77724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izational systems are the most salient form of health technologies; however, pharmaceuticals, procedures, and devices also use computer and data-leveraged information systems to optimize their functio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in computer-supported information systems, predictive analytical algorithms have been deployed within healthcare organizations to analyze resource shortages and plan for them ahead of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Classification of health technologies</a:t>
            </a:r>
            <a:endParaRPr b="0" lang="en-US" sz="32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material natur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urpos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ge of application or age of technology.</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1" name="Picture 4" descr="Top 10 Healthcare Technology Trends - KnowHow"/>
          <p:cNvPicPr/>
          <p:nvPr/>
        </p:nvPicPr>
        <p:blipFill>
          <a:blip r:embed="rId1"/>
          <a:stretch/>
        </p:blipFill>
        <p:spPr>
          <a:xfrm>
            <a:off x="990720" y="3886200"/>
            <a:ext cx="6629400" cy="276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terial natur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dicines and biological preparations (aspirin, penicillin, vaccines, blood produ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pparatus and equipment (scanner, CT, surgical glo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ternal and surgical procedures (psychotherapy, angiography, cholecystectom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system (electronic health documentation, blood bank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izational and management system (programs of total quality mana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000000"/>
                </a:solidFill>
                <a:latin typeface="Calibri"/>
              </a:rPr>
              <a:t>Purpose</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vention methods (immunization, water fluoridation) </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reening methods (Papanicola test, mammography) </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gnostic methods (serological tests, electrocardiogram) </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atment methods (antiviral therapy, coronary bypass) </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habilitation methods (exercise program for patients after cerebral stroke, help with incontinence)</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
          <p:cNvSpPr txBox="1"/>
          <p:nvPr/>
        </p:nvSpPr>
        <p:spPr>
          <a:xfrm>
            <a:off x="457200" y="1523520"/>
            <a:ext cx="8229600" cy="4953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pplication stages or age Technologies of the future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mental technologies (in phase laboratory test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ies under investigation (clinical evaluation in humans is ongo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stablished technologies (widely accepted standard procedur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bandoned technologies (proven harmful or ineffective, supplanted by new technolog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8" name="Picture 5" descr="The Future of Healthcare: Embracing Emerging Technologies for Better  Patient Outcomes"/>
          <p:cNvPicPr/>
          <p:nvPr/>
        </p:nvPicPr>
        <p:blipFill>
          <a:blip r:embed="rId1"/>
          <a:stretch/>
        </p:blipFill>
        <p:spPr>
          <a:xfrm>
            <a:off x="4637160" y="4951440"/>
            <a:ext cx="4506840" cy="190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ll health technologies hybrid when they are created by combining the characteristics of some basic groups, for example drugs and devices. An example of a hybrid technology is photodynamic therapy, which combines light radiation and local drug applic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11" name="Picture 5" descr="Hybrid Healthcare PowerPoint and Google Slides Template - PPT Slides"/>
          <p:cNvPicPr/>
          <p:nvPr/>
        </p:nvPicPr>
        <p:blipFill>
          <a:blip r:embed="rId1"/>
          <a:stretch/>
        </p:blipFill>
        <p:spPr>
          <a:xfrm>
            <a:off x="0" y="3657600"/>
            <a:ext cx="9144000" cy="3390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 cycle of health technologies</a:t>
            </a:r>
            <a:endParaRPr b="0" lang="en-US" sz="4400" spc="-1" strike="noStrike">
              <a:solidFill>
                <a:srgbClr val="000000"/>
              </a:solidFill>
              <a:latin typeface="Calibri"/>
            </a:endParaRPr>
          </a:p>
        </p:txBody>
      </p:sp>
      <p:sp>
        <p:nvSpPr>
          <p:cNvPr id="513" name=""/>
          <p:cNvSpPr txBox="1"/>
          <p:nvPr/>
        </p:nvSpPr>
        <p:spPr>
          <a:xfrm>
            <a:off x="457200" y="1752120"/>
            <a:ext cx="8229600" cy="4373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overy of innovatio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echnology developmen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omotion and diffusion of technology introduction of technology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 in usag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nd aging technologies</a:t>
            </a:r>
            <a:endParaRPr b="0" lang="en-US" sz="2800" spc="-1" strike="noStrike">
              <a:solidFill>
                <a:srgbClr val="000000"/>
              </a:solidFill>
              <a:latin typeface="Calibri"/>
            </a:endParaRPr>
          </a:p>
        </p:txBody>
      </p:sp>
      <p:pic>
        <p:nvPicPr>
          <p:cNvPr id="514" name="Picture 5" descr="What is technology life cycle?"/>
          <p:cNvPicPr/>
          <p:nvPr/>
        </p:nvPicPr>
        <p:blipFill>
          <a:blip r:embed="rId1"/>
          <a:stretch/>
        </p:blipFill>
        <p:spPr>
          <a:xfrm>
            <a:off x="4343400" y="4191120"/>
            <a:ext cx="48006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8:33:08Z</dcterms:created>
  <dc:creator>OliveraRadulovic</dc:creator>
  <dc:description/>
  <dc:language>en-US</dc:language>
  <cp:lastModifiedBy>Ucionica</cp:lastModifiedBy>
  <dcterms:modified xsi:type="dcterms:W3CDTF">2024-02-01T15:13:24Z</dcterms:modified>
  <cp:revision>188</cp:revision>
  <dc:subject/>
  <dc:title>ZDRAVSTVENA ZAŠTITA HENDIKEPIRANIH OSOBA</dc:title>
</cp:coreProperties>
</file>